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8A5-CC03-4EFB-91F7-44566C86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96B-EC40-457F-9270-6C3EB2C5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64E-5D42-46BD-B010-6FA5555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03C-BC6D-4CBD-92DF-11E2E3BE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357-8E71-4837-9ABF-6116600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CEA-4726-4519-91C1-CA98A34A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F64-3E9D-4D62-BCAB-9FF9D737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D47-D241-4BB0-A5B6-238C97C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4B5-5ADD-43F3-81FD-A57BD7A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430-D8CA-4AEF-BC13-D9A6E49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DE5-7B41-47AB-A738-9C918E2C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FDD-D607-4638-89DF-143859A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81EF-4BC8-48B8-A099-4AAEF03A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              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8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osito # 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ltimo repaso para 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la oración con la forma corr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ato Micifú _________ porque es viej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or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 la puerta de mi dormitori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er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y yo __________ las mesa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_ la cama todos los día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___________ a casa muy tard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v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__________ a las diez de la noch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 con mi hermanit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_ nombrar todos los países hispanos y sus capita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43400" y="2514600"/>
          <a:ext cx="4800240" cy="2361960"/>
        </p:xfrm>
        <a:graphic>
          <a:graphicData uri="http://schemas.openxmlformats.org/drawingml/2006/table">
            <a:tbl>
              <a:tblPr/>
              <a:tblGrid>
                <a:gridCol w="610920"/>
                <a:gridCol w="1362600"/>
                <a:gridCol w="1468080"/>
                <a:gridCol w="1358640"/>
              </a:tblGrid>
              <a:tr h="556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 devolver 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to retur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19720" y="76320"/>
          <a:ext cx="4647960" cy="2438280"/>
        </p:xfrm>
        <a:graphic>
          <a:graphicData uri="http://schemas.openxmlformats.org/drawingml/2006/table">
            <a:tbl>
              <a:tblPr/>
              <a:tblGrid>
                <a:gridCol w="591840"/>
                <a:gridCol w="1319400"/>
                <a:gridCol w="1420560"/>
                <a:gridCol w="1316160"/>
              </a:tblGrid>
              <a:tr h="637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 acordar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to remembe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2514600"/>
          <a:ext cx="4343400" cy="2361960"/>
        </p:xfrm>
        <a:graphic>
          <a:graphicData uri="http://schemas.openxmlformats.org/drawingml/2006/table">
            <a:tbl>
              <a:tblPr/>
              <a:tblGrid>
                <a:gridCol w="553680"/>
                <a:gridCol w="1139400"/>
                <a:gridCol w="1420200"/>
                <a:gridCol w="1230120"/>
              </a:tblGrid>
              <a:tr h="54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 advertir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to war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286000" y="4876920"/>
          <a:ext cx="5029200" cy="1904400"/>
        </p:xfrm>
        <a:graphic>
          <a:graphicData uri="http://schemas.openxmlformats.org/drawingml/2006/table">
            <a:tbl>
              <a:tblPr/>
              <a:tblGrid>
                <a:gridCol w="641520"/>
                <a:gridCol w="1425240"/>
                <a:gridCol w="1540080"/>
                <a:gridCol w="1422360"/>
              </a:tblGrid>
              <a:tr h="562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. Comenzar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to beg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52280" y="228600"/>
            <a:ext cx="8839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erbos de “Bot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¿Que países son? ¿Cuales son sus capit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012840" cy="338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122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5943600" y="1371600"/>
            <a:ext cx="1371600" cy="106668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800600" y="1828800"/>
            <a:ext cx="1447920" cy="762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552720" y="4038480"/>
            <a:ext cx="30492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81480" y="4724280"/>
            <a:ext cx="99072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la hoja distrib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EXAMEN # 1 El Proximo Lune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ograf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ge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1 países hispano-hablantes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21 Spanish-Speaking count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bicación en el mapa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location on m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ita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i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vocabul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tbo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socc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uerp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(body pa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bos de “BO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‘boot’ ve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8:20:16Z</dcterms:created>
  <dc:creator>Helen Zumaeta</dc:creator>
  <dc:description/>
  <dc:language>en-US</dc:language>
  <cp:lastModifiedBy>Helen Zumaeta</cp:lastModifiedBy>
  <dcterms:modified xsi:type="dcterms:W3CDTF">2012-09-28T19:47:47Z</dcterms:modified>
  <cp:revision>8</cp:revision>
  <dc:subject/>
  <dc:title>Me llamo __________               Clase 7 il la fecha es el 28 de septiembre del 2012</dc:title>
</cp:coreProperties>
</file>